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F400-A1F2-464F-BD65-0DA3D17795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iology Core Princip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iology Core Princi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or tissues are killed and chemically ‘fixed’ in a complicated and harsh treatment (in full detail in table 3.1 pg 52 Rowlan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is differ to light microscop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eatment can result in alterations to the cell - known as artefa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is mean for the images produced?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or tissues are killed and chemically ‘fixed’ in a complicated and harsh treatment (in full detail in table 3.1 pg 52 Rowla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is differ to light microscop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eatment can result in alterations to the cell - known as arte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is mean for the images produc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graph of epithelial cells from a rat small intestin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 bar = 5 m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graph of epithelial cells from a rat small intest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 bar = 5 m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canning EM microscopes the electrons bounce off the surface of the specim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images with a three-dimensional appeara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 detailed study of surfa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canning EM microscopes the electrons bounce off the surface of the speci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images with a three-dimensional appea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 detailed study of su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watch the following clip explaining S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watch the following clip explaining S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learn.co.uk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microscopy-uk.org.uk/intro/index.htm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mwrn.com/feature/education.as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feic.com/support/tem/transmis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anka.livstek.lth.se:2080/microscopy/foodmicr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learn.co.uk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microscopy-uk.org.uk/intro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mwrn.com/feature/education.a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feic.com/support/tem/transmi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anka.livstek.lth.se:2080/microscopy/foodmic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&amp; Electron Microsco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&amp; complete the following tab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&amp; Electron Micro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&amp; complete the following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lving power of light &amp; electron microsco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the light &amp; electron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&amp; scanning electron microscop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lving power of light &amp; electron micro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the light &amp; 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&amp; scanning electron microsco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s magnify &amp; resolve im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y began in 1665 when Robert Hooke coined the word ‘cells’ to describe the structure of c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know about 2 types of microscope - light &amp; elect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know how they work and the differences between th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not how much they magnify that is key - but how well they resolve…’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s magnify &amp; resolv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y began in 1665 when Robert Hooke coined the word ‘cells’ to describe the structure of c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know about 2 types of microscope - light &amp;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know how they work and the differences between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not how much they magnify that is key - but how well they resolve…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it of resolution of a microscope is the smallest distance between 2 points that can be seen using a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measure of the clarity of the im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croscope with a high resolving power will allow 2 small objects which are close together to be seen as 2 distinct obj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it of resolution of a microscope is the smallest distance between 2 points that can be seen using a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measure of the clarity of the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croscope with a high resolving power will allow 2 small objects which are close together to be seen as 2 distinct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 is inversely proportional to the wavelength of the radiation it u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 is inversely proportional to the wavelength of the radiation it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lenses through which ordinary white light can be focus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microscopes can not resolve 2 points closer together than about half (0.45) the wavelength of the light used (450-600n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lose is thi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lenses through which ordinary white light can be foc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microscopes can not resolve 2 points closer together than about half (0.45) the wavelength of the light used (450-600n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lo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gnification is the eyepiece magnification multiplied by the objective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um magnification of a light microscope is x1500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it be used fo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it not be used fo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gnification is the eyepiece magnification multiplied by the objective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um magnification of a light microscope is x15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it be used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it not be used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(negatively charged, very small particles) can behave as wav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length of electrons is about 0.005n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is mean for the limit of resolution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are ‘fired’ from an electron gun at the specimen and onto a fluorescent screen or photographic pla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this technique commonly us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2 types of electron microscopy - transmission and scann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cus an electron beam onto the specimen using electromagne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(negatively charged, very small particles) can behave as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length of electrons is about 0.005n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is mean for the limit of re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are ‘fired’ from an electron gun at the specimen and onto a fluorescent screen or photographic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this technique commonl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2 types of electron microscopy - transmission and sca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cus an electron beam onto the specimen using electromag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ransmission EM the electrons pass through the specim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men needs to be extremely thin - 10nm to 100n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 can magnify objects up to 500 000 ti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 has made it possible to see the details of and discover new organelles - see page 9 in Colli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ransmission EM the electrons pass through the speci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men needs to be extremely thin - 10nm to 100n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 can magnify objects up to 500 000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 has made it possible to see the details of and discover new organelles - see page 9 in Coll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5C61-ADB8-4360-899E-4A9A90267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A194-ECE2-4D66-8F12-89CD5777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A321-1E35-4173-B70D-C6ECEE564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4785-FE8C-45A5-B1C8-17F02A593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9A5B-CFF3-44B2-B61F-12D904C7A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670C-AAB6-4401-B8FB-D260F85C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B60F-D843-4D4C-8D1E-EDA4411D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53BC-E445-40C7-985C-E2DCDC70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1517-BB58-4592-ACDA-16386054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C0E6-B0CD-443C-8B6F-A04CC7F3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8DF6-1DF9-4943-B5B4-6A5777C7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65ED-2612-4808-B4CC-40305F0E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010E-1FA1-44A4-AF75-359C08E2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48CD-F596-41BB-9F82-DE3EE72E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465C-C735-4158-95C2-D7FD2327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EC60-C293-466B-B07F-E47A70EB0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9AAC-06F1-43CA-8056-5E5F0D544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2D75-888D-4928-B09F-E3257BD6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0014-7A5E-4A6F-BA90-ECEF8654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AE1D-7AE4-49D8-9318-DB0433E3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CBF7-5DF3-40AC-B5EB-EE5E9CF6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63AC-4C26-4008-9547-C2BD5839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6AB6-FE55-407D-BC2B-251428EA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9805-47F7-4302-B782-8B4E2B87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ff1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1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6EF0-0BFA-437D-9D41-948F7C906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ff1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1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F7DE-C35D-4AF6-B633-4831A0406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833616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AS Biology </a:t>
            </a: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Core Principle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6881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Electron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8" presetSubtype="130116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0" presetSubtype="130122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ransmission Electron Microscope (T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5379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lls or tissues are killed and chemically ‘fixed’ in a complicated and harsh treatment (in full detail in table 3.1 pg 52 Rowlan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does this differ to light microscop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treatment can result in alterations to the cell - known as artefa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will this mean for the images produced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6694560" y="1676520"/>
            <a:ext cx="1839960" cy="45720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ransmission Electron Microscope (T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rcRect l="0" t="0" r="0" b="7411"/>
          <a:stretch/>
        </p:blipFill>
        <p:spPr>
          <a:xfrm>
            <a:off x="3352680" y="2260440"/>
            <a:ext cx="2708280" cy="35816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6248520" y="4470480"/>
            <a:ext cx="2133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ransmission electron micrograph of epithelial cells from a rat small intestine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cale bar = 5 mm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Scanning Electron Microscope (S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Scanning EM microscopes the electrons bounce off the surface of the speci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duce images with a three-dimensional appear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 detailed study of surfa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rcRect l="0" t="8390" r="0" b="10688"/>
          <a:stretch/>
        </p:blipFill>
        <p:spPr>
          <a:xfrm>
            <a:off x="5562720" y="2666880"/>
            <a:ext cx="3382920" cy="236880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Scanning Electron Microscope (S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79" name="sem.mov" descr="sem"/>
          <p:cNvPicPr/>
          <p:nvPr/>
        </p:nvPicPr>
        <p:blipFill>
          <a:blip r:embed="rId1"/>
          <a:stretch/>
        </p:blipFill>
        <p:spPr>
          <a:xfrm>
            <a:off x="2971800" y="2819520"/>
            <a:ext cx="4064040" cy="30477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7"/>
          <p:cNvSpPr/>
          <p:nvPr/>
        </p:nvSpPr>
        <p:spPr>
          <a:xfrm>
            <a:off x="1295280" y="19810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w watch the following clip explaining S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Scanning Electron Microscope (S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2819520" y="2590920"/>
            <a:ext cx="4495680" cy="30528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Link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4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learn.co.uk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microscopy-uk.org.uk/intro/index.ht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mwrn.com/feature/education.as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www.feic.com/support/tem/transmis.ht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anka.livstek.lth.se:2080/microscopy/foodmicr.ht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Light &amp; Electron Microscope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447920" y="2209680"/>
          <a:ext cx="7010280" cy="4297320"/>
        </p:xfrm>
        <a:graphic>
          <a:graphicData uri="http://schemas.openxmlformats.org/drawingml/2006/table">
            <a:tbl>
              <a:tblPr/>
              <a:tblGrid>
                <a:gridCol w="2336760"/>
                <a:gridCol w="2336760"/>
                <a:gridCol w="23367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ght Micro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ectron Micro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iation 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iation 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ure of len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ses 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age se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iation me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gn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mit of re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at it can sh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Text Box 67"/>
          <p:cNvSpPr/>
          <p:nvPr/>
        </p:nvSpPr>
        <p:spPr>
          <a:xfrm>
            <a:off x="1371600" y="15238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py &amp; complete the following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Aim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olving pow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esolving power of light &amp; electron microscop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difference between the light &amp; electron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mission &amp; scanning electron microscop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97168" presetSubtype="202076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97168" presetSubtype="202076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97168" presetSubtype="202076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97168" presetSubtype="202076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" dur="1" fill="hold"/>
                                  <p:tgtEl>
                                    <p:spTgt spid="13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Introduction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croscopes magnify &amp; resolve im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croscopy began in 1665 when Robert Hooke coined the word ‘cells’ to describe the structure of c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need to know about 2 types of microscope - light &amp; electr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need to know how they work and the differences between t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s not how much they magnify that is key - but how well they resolve…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Resolving Power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mit of resolution of a microscope is the smallest distance between 2 points that can be seen using a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is a measure of the clarity of the im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microscope with a high resolving power will allow 2 small objects which are close together to be seen as 2 distinct obje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Resolving Power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olving power is inversely proportional to the wavelength of the radiation it u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2819520" y="4191120"/>
            <a:ext cx="4019400" cy="167796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97168" presetSubtype="202246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he Light Microscop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2880" y="1600200"/>
            <a:ext cx="4694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ies of lenses through which ordinary white light can be foc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tical microscopes can not resolve 2 points closer together than about half (0.45) the wavelength of the light used (450-600n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close is thi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5925960" y="1752480"/>
            <a:ext cx="3065760" cy="41148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he Light Microscop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4648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otal magnification is the eyepiece magnification multiplied by the objective magn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ximum magnification of a light microscope is x1500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can it be used fo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can it not be used fo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5925960" y="1752480"/>
            <a:ext cx="3065760" cy="41148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he Electron Microscop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42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ctrons (negatively charged, very small particles) can behave as wa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wavelength of electrons is about 0.005n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will this mean for the limit of resolu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ctrons are ‘fired’ from an electron gun at the specimen and onto a fluorescent screen or photographic pl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re is this technique commonly use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2 types of electron microscopy - transmission and scan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th focus an electron beam onto the specimen using electromagn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ransmission Electron Microscope (T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2880" y="1828800"/>
            <a:ext cx="5303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ransmission EM the electrons pass through the speci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men needs to be extremely thin - 10nm to 100n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M can magnify objects up to 500 000 ti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M has made it possible to see the details of and discover new organelles - see page 9 in Coll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6694560" y="1676520"/>
            <a:ext cx="1839960" cy="457200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22:16:20Z</dcterms:created>
  <dc:creator>Fearghal Kelly</dc:creator>
  <dc:description/>
  <dc:language>en-US</dc:language>
  <cp:lastModifiedBy>LEGION2</cp:lastModifiedBy>
  <dcterms:modified xsi:type="dcterms:W3CDTF">2016-01-11T13:18:03Z</dcterms:modified>
  <cp:revision>33</cp:revision>
  <dc:subject/>
  <dc:title>AS Biology Core Principles</dc:title>
</cp:coreProperties>
</file>